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6928-E224-4346-92D0-172278F7D7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AEA1-7338-4C1D-8C23-763DC10036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93CB-A1D8-4878-9709-CAE3C2B261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63BD-FEC1-4F46-9470-1F3D4625A9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9591-920F-4C2E-92AB-B9267D50A3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AE92-8335-42D4-9665-38CF57B633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6089-DFF9-438A-82C3-4FBA714E4C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0E9F-C9DE-432E-AF30-30B63D792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6EF6-976C-4B27-AE0D-B26A937783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2B02-B028-43D0-978D-A2E182CFDB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9B58-03B1-4D32-9EC2-950167174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1FD5-E7A4-4AEC-8461-802C27512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81D4-4EF4-43D2-8293-B63C346BEA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D413-8300-479C-8765-DE176AB233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0D2D-82E1-44AF-87BE-4D2C59182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DC2E-A666-4E57-AE28-242C0F75B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7ECB-5C02-414A-9B0A-20E55BAEA0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B594-9AF0-4C9C-A447-E6E364C680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4542-EAE1-40B5-8D70-AF79F3DA5D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C2E5-6F9F-40F6-A129-999484A4CA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4EF7-D021-457A-BC63-CF402E7DD8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CFF9-EA12-483A-9120-C59D7C6D43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B1E9-EF5A-42B3-BF34-3F92064BFE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E8C4-468B-495C-87EE-0FECDB231E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D26A-0876-439D-B4EA-07D8F9C88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8275-BD55-4B8F-962F-877E1D662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9CE6-1BD7-42C5-A0DB-C0C10A9C0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2F83-E31B-457D-AC08-3036BAE060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CA27-4662-4959-AE5D-44260A8251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C2F3-3C38-4FAE-B906-0C4C3701B7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667-2A21-4408-A56E-A0EF9F6A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E38-7659-4F52-A77D-D01CFD91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35F-7390-4951-8BCE-377F4859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1DB-3DB8-42F5-862E-6639438C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204-1B3E-43D6-9972-A745AA0D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D8A-B155-4CD5-BE22-8F2AA0A8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558-D7A4-4149-8928-08808DCB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73F-20AA-4CAF-A402-7A3C09AB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160-5571-447F-90B6-0DA3C6EF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AEF-5193-4F8D-8543-72DE7BF2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AE1-E287-4E25-BE1A-78A87836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936-F01B-43A9-BAB5-ED3D809D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4BBA-07E8-4AAE-83A2-483E916693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355680"/>
            <a:ext cx="9325080" cy="6210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270036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Britannic Bold"/>
              </a:rPr>
              <a:t>Sh   t Type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27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cc0000"/>
                </a:solidFill>
                <a:latin typeface="Britannic Bold"/>
              </a:rPr>
              <a:t>Sh   t Typ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ls all a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mid shot_0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539640" y="26028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Mid-sho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most common shot used, especially on television.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 show most of a figure but will show location too so is a popular choice for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wo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a good choice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ot – reverse – sho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scenes involving a dialog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mid all 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side on as well as straight on. This mid-shot fro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thnail and 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uggests a real sense of unity between the two characters that could be lost if the camera was directly in front of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withnail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7570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dium close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86920" y="2060280"/>
            <a:ext cx="7129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ium close-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defined as head and shoulders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ium close-u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more intimate than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this shot fro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reathles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lust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Two sh B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eep ovs_0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324000" y="47628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 the shoulder shots are oft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um close-u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s is seen in this shot fro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ping To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um close-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llows the viewer to see a greater depth of emotion on the actor’s f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US STOP_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468360" y="530064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is shot from Bus Stop you get 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 the should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um close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4 shot through a reflection. This allows us to see the map and the reaction to i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reme Long Shot</a:t>
            </a:r>
            <a:br>
              <a:rPr sz="4000"/>
            </a:br>
            <a:br>
              <a:rPr sz="40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treme long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sometimes called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ide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 has a variety of functions. In this scene fro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i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shows the vastness of the ship and makes the characters seem vulnerable. The effect is made greater by the number of claustrophobic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ose-u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at prece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u breat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68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ose-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us stop_0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79280" y="551664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e-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ets us see emotion and reactions on actor’s faces that could be missed. Very oft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e-u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ill be 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tawa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 a wider sho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lose up_0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250920" y="530064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-up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an also isolate important elements of mise-en- scene. In this cutaway shot from The Conversation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three locks show the character’s parano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alien cu_0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24000" y="566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drama of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an be enhanced by an unusual ang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eeptome_0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24000" y="404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xtreme Close-u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ex cu ch_0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24000" y="55897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eme close-up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very tight so that only part of an object or person can be see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mera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range of effects can be gained by changing angles. In the next shot fro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one with the W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male figure is seen as dominant over the female because of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w ang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s she is in the foreground the low angle has most effect on his position in the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low angl_0"/>
          <p:cNvPicPr/>
          <p:nvPr/>
        </p:nvPicPr>
        <p:blipFill>
          <a:blip r:embed="rId1"/>
          <a:stretch/>
        </p:blipFill>
        <p:spPr>
          <a:xfrm>
            <a:off x="179280" y="13500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 ang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hot from the same film makes him seem small and it emphasises the expectation of the central female character’s entrance at the top of the st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igh ang_1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ien est_0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m low a_0"/>
          <p:cNvPicPr/>
          <p:nvPr/>
        </p:nvPicPr>
        <p:blipFill>
          <a:blip r:embed="rId1"/>
          <a:stretch/>
        </p:blipFill>
        <p:spPr>
          <a:xfrm>
            <a:off x="0" y="260280"/>
            <a:ext cx="9325080" cy="4122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324000" y="472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w-ang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t from Mad Max gives the character authority and power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wrence of Arabi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has some of cinema’s most famous extreme long sho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lawrence_0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withnail_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755640" y="333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g Sho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g-S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ng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hould show a whole figure or a large section of location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ng-sho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ten feature movement because static figures in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ng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eem confrontation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56664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39640" y="213372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m makers will often break up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wo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adding another plane. In this shot from All About Eve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d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supported by another figure i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ng-sh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21:39:42Z</dcterms:created>
  <dc:creator>AKM</dc:creator>
  <dc:description/>
  <dc:language>en-US</dc:language>
  <cp:lastModifiedBy>Elizabeth Cousar</cp:lastModifiedBy>
  <dcterms:modified xsi:type="dcterms:W3CDTF">2014-02-14T16:00:18Z</dcterms:modified>
  <cp:revision>16</cp:revision>
  <dc:subject/>
  <dc:title>Shot Types</dc:title>
</cp:coreProperties>
</file>